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6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22.gif" ContentType="image/gif"/>
  <Override PartName="/ppt/media/image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5.gif" ContentType="image/gif"/>
  <Override PartName="/ppt/media/image38.jpeg" ContentType="image/jpe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4A0-380E-486F-B8B2-92C0DB70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A57-CF8E-4F87-930F-8BA13A16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488-2D81-4EDF-95A5-ACA3F739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000-D305-438D-BEEA-2B5E977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8F74-BAAE-42A3-B86A-C069BCCF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51C-1F1F-4E5F-A136-771CC390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BF3-5E88-4DE2-947B-37A09F5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D90-C9DD-4151-8C9C-6F3ABD4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FF0F-2BB3-41A8-B37A-9FF9A40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383-D0FD-4F0B-A336-4726DEA6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D990-7B1E-4208-AA3E-F483F94A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4E1-16B2-4397-A2A8-273CC58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B27D-5CE7-4CD7-87F4-E9D9DF1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E513-9340-4E98-A01A-123B66E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83FD-78A9-4639-8839-572D54C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D9BD-9B88-4B8F-93C7-7334D310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C12-9BC6-43EF-8DC6-22775884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1098-17D0-41F2-A5B2-35E70993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7184-2A65-4B9D-B5F7-0A93C49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BB6B-954E-4BE6-8D6C-A5DBBDD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F385-12F8-4CCE-ACE9-B7D4CB9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71E8-4A98-4FC6-ACB5-7189230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433-D0BE-47AA-95A1-F1B5DD2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7D5C-19D7-4E4A-9BD1-5531228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E95F-E450-4B1A-8C26-00E5331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E5E6-B85D-4430-81A5-1397C27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F737-B302-4DB1-A6BE-59BD7F7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08E3-6BF9-43F5-BCDD-E18317AF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20AB-46D0-49F8-B2E2-A930CED6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0DFD-D327-4C3B-840F-E7227484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F4C9-3FD0-4D68-869C-954EC66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DE8B-54CA-4A09-AAB2-B6C6F1A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1404-8286-40ED-87E6-D0B0A44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6D0-8D58-4FA9-AA20-5BECC9F8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C842-CAE8-4629-8390-9071862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C073-3DAE-4BB5-8A07-1FAB59AD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C793-11FB-4801-BD93-ED3E5617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3141-76DA-417D-9184-3408FBD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A346-4BC8-41D5-967A-2D8345C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D733-1BB9-4F16-B157-C028701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8E1A-3A43-4327-86B6-977DDD4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F37C-513B-4D66-B46C-51AA4E7E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C9C3-2A0E-4471-B83F-F61A466C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1FA8-38D1-4645-B6DA-F2C6B776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EDB-39F7-45AD-9BBB-561075A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D598-472E-403D-8CFD-28A1D39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A47B-1C7A-491F-AAED-71854121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8316-7892-449C-96EA-08743FF3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B08B-796F-45ED-9BA8-23822FF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6D5E-54A9-4ABF-B360-7B88B53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B18E-5BAD-4D46-9201-AC09849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9776-1024-4AF0-A768-48D0B60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E098-03AD-4176-985F-50EE53C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4F3F-C004-4F25-AB91-5188EB6D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5B4E-1DD3-45DC-9590-825477F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07C-99B8-44B6-9239-B3DEB46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7E3E-4573-4DB8-829F-13DDB112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EC9-2096-4085-851D-DA2DDD7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7FA-699A-4ACB-9FCB-9C3DE0BD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232-14F6-4B0F-BB28-C03FD93C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9FF-4986-4152-80CA-B933A4B9E5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6A6C-76A8-418B-854D-AF082E0657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176A-EF8A-4267-BB9C-7DB34D364E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FB5B-A771-4337-A57C-F178C780DD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A89D-49B6-4EFE-8018-CDB05815D9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c-kapital.ru/images/variant_photos/1396_zimniysad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9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кологическая тропинка в помещении «Кто ходит в гости по утрам, тот поступает мудр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257440" y="3047760"/>
            <a:ext cx="33274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полнили студ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636 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абрук А.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Лютоева Л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рхипова Г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imagesропапа"/>
          <p:cNvPicPr/>
          <p:nvPr/>
        </p:nvPicPr>
        <p:blipFill>
          <a:blip r:embed="rId2"/>
          <a:stretch/>
        </p:blipFill>
        <p:spPr>
          <a:xfrm>
            <a:off x="1600200" y="2666880"/>
            <a:ext cx="188748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%D0%9F%D0%BB%D0%B0%D0%BD%D0%B5%D1%82%D0%B0%D1%80%D0%B8%D0%B9"/>
          <p:cNvPicPr/>
          <p:nvPr/>
        </p:nvPicPr>
        <p:blipFill>
          <a:blip r:embed="rId1"/>
          <a:stretch/>
        </p:blipFill>
        <p:spPr>
          <a:xfrm>
            <a:off x="2133720" y="228600"/>
            <a:ext cx="67816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41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онта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t80550"/>
          <p:cNvPicPr/>
          <p:nvPr/>
        </p:nvPicPr>
        <p:blipFill>
          <a:blip r:embed="rId1"/>
          <a:stretch/>
        </p:blipFill>
        <p:spPr>
          <a:xfrm>
            <a:off x="3657600" y="1600200"/>
            <a:ext cx="362124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149211163"/>
          <p:cNvPicPr/>
          <p:nvPr/>
        </p:nvPicPr>
        <p:blipFill>
          <a:blip r:embed="rId2"/>
          <a:stretch/>
        </p:blipFill>
        <p:spPr>
          <a:xfrm>
            <a:off x="7543800" y="5029200"/>
            <a:ext cx="125244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04960" y="8049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Коридоры, холлы, лестниц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ллах и коридорах могут быть размещены  тематические выставки фотографий (дети с родителями на природе ...) или детских рисунков, букеты сухих цветов, панно, фотообо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ридоре уголки с растениями и фонтан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ы ландшафтов с водой: фотообои водопада+фонтан+ отдельные игрушки – животные, связанные с водой. Уголок Арктики – с льдинами из пенопласта и животными(игрушками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ллах угловые многоярусные подиумы, где выставляются детские подел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Picture 4" descr="a220"/>
          <p:cNvPicPr/>
          <p:nvPr/>
        </p:nvPicPr>
        <p:blipFill>
          <a:blip r:embed="rId2"/>
          <a:stretch/>
        </p:blipFill>
        <p:spPr>
          <a:xfrm>
            <a:off x="7296120" y="228600"/>
            <a:ext cx="1847880" cy="17496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images (14).jpg"/>
          <p:cNvPicPr/>
          <p:nvPr/>
        </p:nvPicPr>
        <p:blipFill>
          <a:blip r:embed="rId3"/>
          <a:stretch/>
        </p:blipFill>
        <p:spPr>
          <a:xfrm>
            <a:off x="7086600" y="4792680"/>
            <a:ext cx="16956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8" name="Picture 2" descr="G:\Экология\Лестнич. педагогика\File0713.tif"/>
          <p:cNvPicPr/>
          <p:nvPr/>
        </p:nvPicPr>
        <p:blipFill>
          <a:blip r:embed="rId1"/>
          <a:stretch/>
        </p:blipFill>
        <p:spPr>
          <a:xfrm>
            <a:off x="2133720" y="152280"/>
            <a:ext cx="67053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спериментальный угол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специальное помещение, в котором дети проводят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ия может быть организована 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ьном помещ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часть помещ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-лаборатория в группе и до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на участ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на занятиях превращаются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ных», изучающих различные природные объекты, взаимосвязи в природ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вают белые халаты и получают опознавательные знач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4" descr="a139"/>
          <p:cNvPicPr/>
          <p:nvPr/>
        </p:nvPicPr>
        <p:blipFill>
          <a:blip r:embed="rId1"/>
          <a:stretch/>
        </p:blipFill>
        <p:spPr>
          <a:xfrm>
            <a:off x="7408800" y="2971800"/>
            <a:ext cx="1316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872000" y="804960"/>
            <a:ext cx="67716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ини-огород на ок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часть пространства на ок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специально устроенном дополнительном освещении лампой дневного света на окне можно круглый год выращивать экологически чисты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еные культуры (укроп, петрушку, лук, чеснок, салат)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акже проращивать овёс и другую зелень для животн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ть выгонку цветущих луковичных растений (крокусы, нарциссы, тюльпаны и д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4" name="Рисунок 5" descr="images (13).jpg"/>
          <p:cNvPicPr/>
          <p:nvPr/>
        </p:nvPicPr>
        <p:blipFill>
          <a:blip r:embed="rId1"/>
          <a:stretch/>
        </p:blipFill>
        <p:spPr>
          <a:xfrm>
            <a:off x="7010280" y="457200"/>
            <a:ext cx="17719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67160" y="890640"/>
            <a:ext cx="59900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голок прир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это место, где содержатся комнатные растения и некоторые животные,  организуется систематический труд и наблюдения детей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сположить можно в групповой комнате или раздевальном помещении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лесообразно иметь в каждой возрастной группе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инимальные состав уголка природы: комнатные растения и аквариум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Рисунок 5" descr="images (2).jpg"/>
          <p:cNvPicPr/>
          <p:nvPr/>
        </p:nvPicPr>
        <p:blipFill>
          <a:blip r:embed="rId1"/>
          <a:stretch/>
        </p:blipFill>
        <p:spPr>
          <a:xfrm>
            <a:off x="7467480" y="4952880"/>
            <a:ext cx="11145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96440" y="834120"/>
            <a:ext cx="541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Мини-муз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колаева С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то специальное помещение в котором собраны педагогами, родителями и детьми разные интересные вещ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ма: «Лес и его значение в жизни человек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ыжова Н.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то специальное помещение (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жет быть часть группового помещения, холла, спальни, раздевального помещения, коридора, изостудии, экологической комнаты)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торое посвящено определенному предмету, объекту природы или явле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4" descr="images (12)"/>
          <p:cNvPicPr/>
          <p:nvPr/>
        </p:nvPicPr>
        <p:blipFill>
          <a:blip r:embed="rId2"/>
          <a:stretch/>
        </p:blipFill>
        <p:spPr>
          <a:xfrm>
            <a:off x="7010280" y="457200"/>
            <a:ext cx="1487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2" name="Picture 14" descr=""/>
          <p:cNvPicPr/>
          <p:nvPr/>
        </p:nvPicPr>
        <p:blipFill>
          <a:blip r:embed="rId1"/>
          <a:stretch/>
        </p:blipFill>
        <p:spPr>
          <a:xfrm>
            <a:off x="2133720" y="0"/>
            <a:ext cx="6858000" cy="68580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Фитоба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небольшое помещение , где детям после процедур или занятий в бассейне предлагается набор витаминных чаев, настоев из трав и пл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стенах фитобара </a:t>
            </a:r>
            <a:r>
              <a:rPr b="1" lang="ru-RU" sz="1800" spc="-1" strike="noStrike">
                <a:solidFill>
                  <a:srgbClr val="00449e"/>
                </a:solidFill>
                <a:latin typeface="Arial"/>
              </a:rPr>
              <a:t>вывешиваются </a:t>
            </a:r>
            <a:r>
              <a:rPr b="1" lang="ru-RU" sz="1800" spc="-1" strike="noStrike" u="sng">
                <a:solidFill>
                  <a:srgbClr val="00449e"/>
                </a:solidFill>
                <a:uFillTx/>
                <a:latin typeface="Arial"/>
              </a:rPr>
              <a:t>фотографии,</a:t>
            </a:r>
            <a:r>
              <a:rPr b="1" lang="ru-RU" sz="1800" spc="-1" strike="noStrike">
                <a:solidFill>
                  <a:srgbClr val="00449e"/>
                </a:solidFill>
                <a:latin typeface="Arial"/>
              </a:rPr>
              <a:t> наборы художественно выполненных рисунков целебных растений, которые </a:t>
            </a:r>
            <a:r>
              <a:rPr b="1" lang="ru-RU" sz="1800" spc="-1" strike="noStrike" u="sng">
                <a:solidFill>
                  <a:srgbClr val="00449e"/>
                </a:solidFill>
                <a:uFillTx/>
                <a:latin typeface="Arial"/>
              </a:rPr>
              <a:t>меняются в зависимости от составов лекарственных сбор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 время процедур воспитатель обращает внимание детей 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нешний вид растений, их названия, особенности растений, места их произрастания, правила сбора и охраны, рассказывает посвященные им легенд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5" name="Picture 4" descr="images (11)"/>
          <p:cNvPicPr/>
          <p:nvPr/>
        </p:nvPicPr>
        <p:blipFill>
          <a:blip r:embed="rId2"/>
          <a:stretch/>
        </p:blipFill>
        <p:spPr>
          <a:xfrm>
            <a:off x="7423200" y="304920"/>
            <a:ext cx="126360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029320" y="962280"/>
            <a:ext cx="6761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ая тропинка в помеще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своеобразный маршрут, по которому дети идут с определенной целью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на состоит из ряда видовых точек (объектов)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голок природы в групп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Экспериментальный угол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Зимний са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муз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планетарий (в коридоре, под лестничной клеткой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итоба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онта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алереи с фотографиями и картинами о природ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Мини-орогод на окн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аминный угол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149211163"/>
          <p:cNvPicPr/>
          <p:nvPr/>
        </p:nvPicPr>
        <p:blipFill>
          <a:blip r:embed="rId1"/>
          <a:stretch/>
        </p:blipFill>
        <p:spPr>
          <a:xfrm>
            <a:off x="7391520" y="4724280"/>
            <a:ext cx="16113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7" name="Picture 6" descr="http://www.kam-tur.ru/userfiles/Image/photo/picture2876.jpg"/>
          <p:cNvPicPr/>
          <p:nvPr/>
        </p:nvPicPr>
        <p:blipFill>
          <a:blip r:embed="rId1"/>
          <a:srcRect l="0" t="0" r="0" b="2344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отри на нашей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K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аничк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тство»: программа воспитания и обучения дошколь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о разделу «Растительный мир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е задачи по возрастным группам, в соответствии со своим проек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Picture 4" descr="5"/>
          <p:cNvPicPr/>
          <p:nvPr/>
        </p:nvPicPr>
        <p:blipFill>
          <a:blip r:embed="rId1"/>
          <a:stretch/>
        </p:blipFill>
        <p:spPr>
          <a:xfrm>
            <a:off x="7010280" y="4952880"/>
            <a:ext cx="155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ловицы и поговор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"Чтобы кактусов набрать, надо рано встать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Для волнистых попугаев можно применить пословицу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л, да удал!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Не накормит земля, накормит вода. (Рыб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Его бьют сапогом, его бьют колесом, и ударь кирпичом, ему все нипочем» (подорожник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Звезда - судьба, счастье. (Звезд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Пей чай – удовольствие получа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чтобы добыть чашку риса, надо пролить чашку пот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Против жара и камень треснет.(камен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Возвращай земле долг – будет тол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Не гляди в небо – там нет хлеба, а к земле ниже – к хлебу бли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Чай крепче, если он с добрым другом разделе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Лес рубят - щепки летя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Чем дальше в лес, тем больше д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Как из муки не испечешь хлеба, так без зверобоя не вылечишь челове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Picture 4" descr="images (15)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43800" y="820080"/>
            <a:ext cx="46846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29718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1.На окне цветок колючий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Смотрит за околиц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Вы его не троньте лучше: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чень больно колется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(Кактус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2. Птичка в клеточке сидит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И с тобою говорит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Ей секрет не доверяй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Разболтает ..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(Ответ:Попугай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3. Не хожу и не летаю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А попробуй догони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Я бываю золотая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Ну-ка, в сказку загляни!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Золотая рыбка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4. Комочек пуха, длинное ухо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Прыгает ловко, любит морковк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Кролик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5. Прежде чем его мы съели,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Все наплакаться успели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твет: Лук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324480" y="2362320"/>
            <a:ext cx="2210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На окошке - пруд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нем рыбешки живу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Аквариум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Желтый цитрусовый пл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транах солнечных растё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 на вкус кислейший он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зовут его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 лим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 него большой живот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совсем не бегемо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Хобот-нос приподнял он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, однако же, не слон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пыхтит он через но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ите как паровоз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Чайник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Не огонь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жж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Крапив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7" name="Picture 5" descr="images"/>
          <p:cNvPicPr/>
          <p:nvPr/>
        </p:nvPicPr>
        <p:blipFill>
          <a:blip r:embed="rId1"/>
          <a:stretch/>
        </p:blipFill>
        <p:spPr>
          <a:xfrm>
            <a:off x="3581280" y="3505320"/>
            <a:ext cx="2152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891440" y="8244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971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. Шар воздушный золото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д рекой остановился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ачался над водо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потом за лесом скрыл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Солнц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. Сежей зеленью од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рки, улицы, поля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море солнечного св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гружается..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земля 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. Суп, салат, пюре, котле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дают всегда в … (Тарел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 на чай и простоквашу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дставляй, дружочек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Чашку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. Нам он - как хороший друг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Лечит ранки ног и рук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твет: подорожник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скры небо прожигают, а до нас не долетаю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Звезды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029200" y="3581280"/>
            <a:ext cx="396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. Вот зелёная кокетк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ельдереева соседк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троносая старушк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ем мы тебя,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петруш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. Там морковка, там капуста, там клубничкой пахнет вкусн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козла туда, друзья, нам никак пускать нельз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огород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. И в море не купаются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нет на них щетин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 все же называютс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ни - морские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Свинк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5410080" y="53352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. Выше леса, выше гор расстилается ков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н раскинут над тобой и надо мно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о он серый, то он синий, то он ярко-голубо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Небо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029200" y="2514600"/>
            <a:ext cx="327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. В огороде хрупкий зонт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немногу вверх растёт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к зовут тебя? «Прокоп», -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омко скажет нам ..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укроп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81280" y="880920"/>
            <a:ext cx="783864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4" descr="4"/>
          <p:cNvPicPr/>
          <p:nvPr/>
        </p:nvPicPr>
        <p:blipFill>
          <a:blip r:embed="rId2"/>
          <a:stretch/>
        </p:blipFill>
        <p:spPr>
          <a:xfrm>
            <a:off x="6934320" y="4724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1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ют для лечения ожогов, гнойных ран и фурункулов.Для снижения артериального давления применяют настойку.При зубной боли натирать десны соком подорожника. Также полоскать рот настоем этой травы, что способствует укреплению зуб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2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олика маленькие ушки, он питается морковкой, капустой, травкой. Кролик живёт в клет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57920" y="795600"/>
            <a:ext cx="5495040" cy="4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лан-схема (1 этаж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Picture 5" descr="1 этаж"/>
          <p:cNvPicPr/>
          <p:nvPr/>
        </p:nvPicPr>
        <p:blipFill>
          <a:blip r:embed="rId1"/>
          <a:stretch/>
        </p:blipFill>
        <p:spPr>
          <a:xfrm>
            <a:off x="1676520" y="1143000"/>
            <a:ext cx="6933960" cy="530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3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ая свинка, конечно же, не имеет никакого отношения н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орю, ни к свиньям. Само название "свинка" появилось из-за строения головы зверьков. Эти животные имеют удлиненное тело, грубый шерстный покров, короткую шею, сравнительно короткие ноги. На передних лапках четыре, а на задних — три пальца, которые имеют большие копытообразные когти. У свинки нет хвоста. Морские свинки очень «разговорчивые». В спокойном состоянии голос морской свинки напоминает бульканье воды, в состояние испуга - визг. В целом звуки, издаваемые этим грызуном, очень похожи на хрюканье свиней, это еще одна причина столь странного названия. Вероятнее всего, изначально морская свинка и в Европе служила пищ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4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опугая всегда яркая окраска, есть клюв, он малень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5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-нет, днем они тоже светят, просто их не видно. В дневное время наше солнышко своими лучами освещает голубую атмосферу планеты, из-за чего космос скрывается как бы за шторкой. Ночью же эта завеса открывается, и мы видим все великолепие космоса — звезды, галактики, туманности, кометы и многие другие чудеса нашей Вселен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6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формления группы, а также они являются очистителями воздуха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7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е освещение поможет обеспечить необходимое качество света и нормальную жизнедеятельность для рыб, так же свет необходим аквариумным растениям для фотосинтез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нимательные вопросы и задач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ем полезен подорожник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м отличается кролик от зайц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морская свинка называется морск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 каким внешним особенностям можно узнать попугая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чему звёзды видны только ночью, а днём мы их не види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ачем для рыбок в аквариуме нужен дневной све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Для чего нужны растения в детском сад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8.  Какой рукой лучше размешивать ч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157920" y="719640"/>
            <a:ext cx="549504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лан-схема (2 этаж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Picture 4" descr="2 этаж"/>
          <p:cNvPicPr/>
          <p:nvPr/>
        </p:nvPicPr>
        <p:blipFill>
          <a:blip r:embed="rId1"/>
          <a:stretch/>
        </p:blipFill>
        <p:spPr>
          <a:xfrm>
            <a:off x="1828800" y="1371600"/>
            <a:ext cx="6400800" cy="5205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 на 8 вопро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ой ложка, а если ложка есть в обоих, то которой удобне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аспорта природных объ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7" name="Рисунок 1" descr="Аспарагус"/>
          <p:cNvPicPr/>
          <p:nvPr/>
        </p:nvPicPr>
        <p:blipFill>
          <a:blip r:embed="rId1"/>
          <a:stretch/>
        </p:blipFill>
        <p:spPr>
          <a:xfrm>
            <a:off x="762120" y="2286000"/>
            <a:ext cx="2009520" cy="18352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http://www.rastimir.ru/encyclopedia/pictures/achimenes.jpg"/>
          <p:cNvPicPr/>
          <p:nvPr/>
        </p:nvPicPr>
        <p:blipFill>
          <a:blip r:embed="rId2"/>
          <a:stretch/>
        </p:blipFill>
        <p:spPr>
          <a:xfrm>
            <a:off x="2819520" y="2286000"/>
            <a:ext cx="1600200" cy="1835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6" descr="http://flower.onego.ru/lukov/enc_0175.jpg"/>
          <p:cNvPicPr/>
          <p:nvPr/>
        </p:nvPicPr>
        <p:blipFill>
          <a:blip r:embed="rId3"/>
          <a:stretch/>
        </p:blipFill>
        <p:spPr>
          <a:xfrm>
            <a:off x="4495680" y="2286000"/>
            <a:ext cx="1371600" cy="18273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8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1888920" cy="1828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9" descr=" (289x307, 45Kb)"/>
          <p:cNvPicPr/>
          <p:nvPr/>
        </p:nvPicPr>
        <p:blipFill>
          <a:blip r:embed="rId5"/>
          <a:stretch/>
        </p:blipFill>
        <p:spPr>
          <a:xfrm>
            <a:off x="762120" y="43434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0" descr="Гибискус китайский"/>
          <p:cNvPicPr/>
          <p:nvPr/>
        </p:nvPicPr>
        <p:blipFill>
          <a:blip r:embed="rId6"/>
          <a:stretch/>
        </p:blipFill>
        <p:spPr>
          <a:xfrm>
            <a:off x="2895480" y="43434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2" descr="Кливия"/>
          <p:cNvPicPr/>
          <p:nvPr/>
        </p:nvPicPr>
        <p:blipFill>
          <a:blip r:embed="rId7"/>
          <a:stretch/>
        </p:blipFill>
        <p:spPr>
          <a:xfrm>
            <a:off x="4648320" y="4343400"/>
            <a:ext cx="1904760" cy="19810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9" descr="http://www.sestrenka.ru/pics/a/limon.jpg"/>
          <p:cNvPicPr/>
          <p:nvPr/>
        </p:nvPicPr>
        <p:blipFill>
          <a:blip r:embed="rId8"/>
          <a:stretch/>
        </p:blipFill>
        <p:spPr>
          <a:xfrm>
            <a:off x="6629400" y="434340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ов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везды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- небесное тело, в котором идут, шли или будут идти термоядерные реакции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лнце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представляет собой массивный светящийся газовый (плазменный) шар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анета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 "блуждающая звезда" – огонёк, перемещающийся по неб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напиток, получаемый варкой, завариванием или настаиванием листа чайного куста, который предварительно подготавливается специальным образо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йни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 небольшой закрытый сосуд с носиком, крышкой  и ручкой для подогревания и кипячения воды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мена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- особая многоклеточная структура сложного строения, служащая для размножения и расселения семенных растений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мень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иродный твёрдый минерал, скальная масса, горная пород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стение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живой организм, не относящийся к классу животных или грибов, использующий для обмена веществ световую энергию Солнц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пуга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семейство птиц отряда попугаеобразных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ыба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надкласс водных животных, обширная группа позвоночных, для которых характерно жаберное дыхани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роли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общее название нескольких родов млекопитающих из семейства зайцев. 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бы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стеклянный сосуд с круглым или плоским дном, обычно с узким длинным горлышко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онаты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едмет, выставляемый для обозрения в музее или на выставк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ериментальный уголок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помещение предназначенное для проведения экспериментов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нтан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природное или искусственно вызванное явление, заключающееся в истечении жидкости под действием оказываемого на неё давления вверх или вбок из источник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анетарий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научно-просветительное учреждение, в котором демонстрируется небесная сфера со звёздами, планетами и спутниками, кометами и метеорами, а также солнечные и лунные затмения, панорамы Луны, Марса, Венеры и климатических поясов земного шара. 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тобар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место, где вам предложат различные коктейли и продукты на основе травяных и плодово-ягодных сборов, свежевыжатые соки, а также специальное питание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нно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живописное произведение декоративного характера, обычно предназначенное для постоянного заполнения каких либо участков стены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ртина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- произведение живописи, обладающее законченным характером и самостоятельным художественным значением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оршок </a:t>
            </a: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округлый сосуд для приготовления и хранения пищи, разведения цветов и иных хозяйственных нужд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7" name="Picture 4" descr="a132"/>
          <p:cNvPicPr/>
          <p:nvPr/>
        </p:nvPicPr>
        <p:blipFill>
          <a:blip r:embed="rId1"/>
          <a:stretch/>
        </p:blipFill>
        <p:spPr>
          <a:xfrm>
            <a:off x="7645320" y="304920"/>
            <a:ext cx="13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2727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нтонова С.  Цветочный серпантин // Обруч. – 2003 - № 4 с.18-21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укова В. Приметы и прогнозы // Обруч. – 2006 - № 1 с.24-25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нина Т. Полезные фитомодули // Обруч. – 2003 - № 3 – с.32-34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енина Т.Н. Конспекты занятий по ознакомлению дошкольников с   природными объектами. М.: Педагогическое Общество России, 200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ванова А.И. Методика организации экологических наблюдений и экспериментов в детском саду: пособие для работников дошкольных учреждений. – М.: ТЦ Сфера, 2007. – 56 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ванова А.И. Экологические наблюдения и эксперименты в детском саду (мир растений). - М.: ТЦ Сфера, 2004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Лагутенко О. И. Привлечение птиц и наблюдение за ними с детьми // Дошкольная педагогика. - 2003  - №   2 с. 24-2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ленникова О.М., Филиппенко А.А. Экологические проекты в детском саду. – Волгоград: Учитель, 2009. – 232 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Методика экологического воспитания в детском саду: Работа с детьми сред. и ст. групп дет. сада: Кн. для воспитателей дет. сада. – 2-е изд.- М.: Просвещение, 2000. – 208 с.: и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О чём говорят растения // Ребёнок в детском саду. – 2002. -№ 3. –с.8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иколаева С.Н. Создаем условия для экологического воспитания детей: методические рекомендации для дошкольных учреждений. - М., 1993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 Дорога, длиною в ДОУ // Обруч. – 2006 - № 3 с. 28-30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 Попробуйте огурчики // Обруч. - 2002 - №5 с. 33-35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Экологизация предметно-развивающей среды // Дошкольно воспитание. – 1999. - № 7.- с.16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Экологическое образование в детском саду. – М., 2001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жова Н.А. Я и Природа. Наш дом - природа. - М., 1996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0" name="Picture 4" descr="4"/>
          <p:cNvPicPr/>
          <p:nvPr/>
        </p:nvPicPr>
        <p:blipFill>
          <a:blip r:embed="rId1"/>
          <a:stretch/>
        </p:blipFill>
        <p:spPr>
          <a:xfrm>
            <a:off x="7238880" y="228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48360" y="25909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images (4)"/>
          <p:cNvPicPr/>
          <p:nvPr/>
        </p:nvPicPr>
        <p:blipFill>
          <a:blip r:embed="rId1"/>
          <a:stretch/>
        </p:blipFill>
        <p:spPr>
          <a:xfrm>
            <a:off x="5715000" y="1828800"/>
            <a:ext cx="1363680" cy="1143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mages (6)"/>
          <p:cNvPicPr/>
          <p:nvPr/>
        </p:nvPicPr>
        <p:blipFill>
          <a:blip r:embed="rId2"/>
          <a:stretch/>
        </p:blipFill>
        <p:spPr>
          <a:xfrm>
            <a:off x="5897520" y="3048120"/>
            <a:ext cx="922320" cy="132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images (10)"/>
          <p:cNvPicPr/>
          <p:nvPr/>
        </p:nvPicPr>
        <p:blipFill>
          <a:blip r:embed="rId3"/>
          <a:stretch/>
        </p:blipFill>
        <p:spPr>
          <a:xfrm>
            <a:off x="5867280" y="434340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images (14)"/>
          <p:cNvPicPr/>
          <p:nvPr/>
        </p:nvPicPr>
        <p:blipFill>
          <a:blip r:embed="rId4"/>
          <a:stretch/>
        </p:blipFill>
        <p:spPr>
          <a:xfrm>
            <a:off x="5791320" y="5410080"/>
            <a:ext cx="969840" cy="990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imagesропапа"/>
          <p:cNvPicPr/>
          <p:nvPr/>
        </p:nvPicPr>
        <p:blipFill>
          <a:blip r:embed="rId5"/>
          <a:stretch/>
        </p:blipFill>
        <p:spPr>
          <a:xfrm>
            <a:off x="5967360" y="304920"/>
            <a:ext cx="1041480" cy="1600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395360" y="736560"/>
            <a:ext cx="212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304920"/>
          <a:ext cx="7010280" cy="6095880"/>
        </p:xfrm>
        <a:graphic>
          <a:graphicData uri="http://schemas.openxmlformats.org/drawingml/2006/table">
            <a:tbl>
              <a:tblPr/>
              <a:tblGrid>
                <a:gridCol w="4664160"/>
                <a:gridCol w="234612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ни-Пух – хозяин волшебной тропинки, который знакомит детей с точками экологической тропинки и правилами поведения в гостях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Флора» - хозяйка зимнего сада, знакомит детей с растениями и животным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ЛОшка – живет в планетарии и знакомит детей с планетами, звездами и т.д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лаундер –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житель подводного царства фонтана , любитель беседовать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лик Иа – делает выставки картин о природ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05920" y="2438280"/>
            <a:ext cx="304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images (8)"/>
          <p:cNvPicPr/>
          <p:nvPr/>
        </p:nvPicPr>
        <p:blipFill>
          <a:blip r:embed="rId1"/>
          <a:stretch/>
        </p:blipFill>
        <p:spPr>
          <a:xfrm>
            <a:off x="6172200" y="304920"/>
            <a:ext cx="89208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images (12)"/>
          <p:cNvPicPr/>
          <p:nvPr/>
        </p:nvPicPr>
        <p:blipFill>
          <a:blip r:embed="rId2"/>
          <a:stretch/>
        </p:blipFill>
        <p:spPr>
          <a:xfrm>
            <a:off x="5943600" y="1905120"/>
            <a:ext cx="1158840" cy="1447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images (13)"/>
          <p:cNvPicPr/>
          <p:nvPr/>
        </p:nvPicPr>
        <p:blipFill>
          <a:blip r:embed="rId3"/>
          <a:stretch/>
        </p:blipFill>
        <p:spPr>
          <a:xfrm>
            <a:off x="6172200" y="3368520"/>
            <a:ext cx="1371600" cy="1019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images (2)"/>
          <p:cNvPicPr/>
          <p:nvPr/>
        </p:nvPicPr>
        <p:blipFill>
          <a:blip r:embed="rId4"/>
          <a:stretch/>
        </p:blipFill>
        <p:spPr>
          <a:xfrm>
            <a:off x="6342120" y="4419720"/>
            <a:ext cx="79200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images (11)"/>
          <p:cNvPicPr/>
          <p:nvPr/>
        </p:nvPicPr>
        <p:blipFill>
          <a:blip r:embed="rId5"/>
          <a:stretch/>
        </p:blipFill>
        <p:spPr>
          <a:xfrm>
            <a:off x="6289560" y="5486400"/>
            <a:ext cx="720720" cy="11145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1393920" y="192420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0880" y="380880"/>
          <a:ext cx="7467840" cy="6172200"/>
        </p:xfrm>
        <a:graphic>
          <a:graphicData uri="http://schemas.openxmlformats.org/drawingml/2006/table">
            <a:tbl>
              <a:tblPr/>
              <a:tblGrid>
                <a:gridCol w="4864320"/>
                <a:gridCol w="2603520"/>
              </a:tblGrid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еный Эколотроп – хозяин экпериментального уголка, знакомит детей с оборудованием и проводит опыт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ятачок – хозяин мини-музея, любитель собирать разные ширмы и предметы по теме лес, природный материал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лик – хозяин мини-огорода. Выращивает зелень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оровичок – хозяин уголка природ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гра – хозяин фитобара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57920" y="795600"/>
            <a:ext cx="5495040" cy="4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имний са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специальное большое и хорошо освещенное помещение 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рез большие окна, стеклянную крышу или искусственно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зле южных солнечных окон устраива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голок пустыни, </a:t>
            </a:r>
            <a:r>
              <a:rPr b="1" lang="ru-RU" sz="1800" spc="-1" strike="noStrike">
                <a:solidFill>
                  <a:srgbClr val="002e69"/>
                </a:solidFill>
                <a:latin typeface="Arial"/>
              </a:rPr>
              <a:t>создав композицию из суккулент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e69"/>
                </a:solidFill>
                <a:latin typeface="Arial"/>
              </a:rPr>
              <a:t>В противоположном углу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опическая композиция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з влаголюбивых раст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ция плодовых деревьев: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оративный гранат, инжир, комнатный лимон, банановая пальма, кофейное дерево, чайный куст, лавр и д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ссейн с фонтаном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 где плавает золотая рыб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зимнего сада подходит каменное или деревянное оформление (скульптуры, скамеечки, дорожки и п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4" descr="388620577"/>
          <p:cNvPicPr/>
          <p:nvPr/>
        </p:nvPicPr>
        <p:blipFill>
          <a:blip r:embed="rId2"/>
          <a:stretch/>
        </p:blipFill>
        <p:spPr>
          <a:xfrm>
            <a:off x="7467480" y="5105520"/>
            <a:ext cx="1447920" cy="15332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images (4).jpg"/>
          <p:cNvPicPr/>
          <p:nvPr/>
        </p:nvPicPr>
        <p:blipFill>
          <a:blip r:embed="rId3"/>
          <a:stretch/>
        </p:blipFill>
        <p:spPr>
          <a:xfrm>
            <a:off x="6019920" y="228600"/>
            <a:ext cx="1476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1" name="Picture 6" descr="Картинка 45 из 1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2280"/>
            <a:ext cx="67820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71880" y="861840"/>
            <a:ext cx="5590440" cy="3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Мини - планетар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олубая комната, на потолке которой размещен макет солнечной системы с планетами и их орбитами, звездным неб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Формирование представлений у старших дошкольников о Вселенной, о планетах Солнечной системы и зодиакальных созвезд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атериал: телескоп, глобус, лампы, лупы, карты, макеты и сх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«Звездное небо» - штора из плотной черной ткани с отверстиями в форме звез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4" descr="238719788"/>
          <p:cNvPicPr/>
          <p:nvPr/>
        </p:nvPicPr>
        <p:blipFill>
          <a:blip r:embed="rId2"/>
          <a:stretch/>
        </p:blipFill>
        <p:spPr>
          <a:xfrm>
            <a:off x="769608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images (6).jpg"/>
          <p:cNvPicPr/>
          <p:nvPr/>
        </p:nvPicPr>
        <p:blipFill>
          <a:blip r:embed="rId3"/>
          <a:stretch/>
        </p:blipFill>
        <p:spPr>
          <a:xfrm>
            <a:off x="7924680" y="2895480"/>
            <a:ext cx="10288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6-07T12:16:3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